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7B1-285A-40D4-A529-38AB9AD5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E11-2D00-471B-B876-BCAC484F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309-BF9C-490B-BE39-64D1A28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CE3-EE15-4EBC-BBA9-1B13A3F3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FC7-8FF1-41D4-A970-6D920AE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E23-B03B-48E4-816E-60C74F6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6D3-3FDE-443A-8951-9F5F2FF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28C-60B1-459C-92C9-28FEFBE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F23-2E61-427D-B17F-10EE307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6AF-B270-4DAA-AA7A-B6BA0FF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60D-484A-4CCC-8474-3423ECF7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E64-80BA-4300-8462-0878B4E6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5CA-C096-42D2-BD77-F9699848ED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98100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a set of events have an equal chance of occurring, it is possible to calculate prob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 example, you can calculate the probability of rolling a 4 on a die because the 4 has the same chance of occurring as the other number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5280" y="306864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an event happe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00720" y="2421000"/>
            <a:ext cx="360036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number of results you wa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number of possible resul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427640" y="3573360"/>
            <a:ext cx="295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3068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rolling a 4 on a normal di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211640" y="2852640"/>
            <a:ext cx="46432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 side with the number 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 possible si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859280" y="3573360"/>
            <a:ext cx="295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3068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rolling a 4 on a normal di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11640" y="2852640"/>
            <a:ext cx="46432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84720" y="3573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ich of these statements are true about the word MATHEMATICA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2205000"/>
            <a:ext cx="7921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picking a vowel is 50 % because a letter picked is either a vowel or it isn’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picking a vowel is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cause there are 5 vowels out of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 letters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Line 5"/>
          <p:cNvSpPr/>
          <p:nvPr/>
        </p:nvSpPr>
        <p:spPr>
          <a:xfrm>
            <a:off x="6804000" y="49417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979640" y="3429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11280" y="595008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Oval 8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284720" y="3068640"/>
            <a:ext cx="468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How class 6b get to scho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cide which of these statements are tru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468360" y="1125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s spinner represents all of class 6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1692360" y="4508640"/>
            <a:ext cx="936720" cy="57600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284720" y="126828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995640" y="1125360"/>
            <a:ext cx="51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landing on a person who said bike or car is the same as landing on a person who walk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763640" y="4581360"/>
            <a:ext cx="936720" cy="57636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284720" y="335772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“bike” is the same as getting “car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308720" y="256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804000" y="4508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Oval 3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284720" y="126828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995640" y="1125360"/>
            <a:ext cx="51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“car” is 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1763640" y="4581360"/>
            <a:ext cx="936720" cy="57636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284720" y="335772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car is 25 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7308720" y="256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804000" y="4508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995640" y="2133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3:37:19Z</dcterms:created>
  <dc:creator>Manager</dc:creator>
  <dc:description/>
  <dc:language>en-US</dc:language>
  <cp:lastModifiedBy>HELEN</cp:lastModifiedBy>
  <dcterms:modified xsi:type="dcterms:W3CDTF">2016-10-28T21:58:02Z</dcterms:modified>
  <cp:revision>9</cp:revision>
  <dc:subject/>
  <dc:title>Slide 1</dc:title>
</cp:coreProperties>
</file>